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457F-38E0-44D7-A2FB-F0112BEA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6A6F-EC0B-40FA-B0D8-BD0BE8B9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0EE7-E1BB-4B6A-8769-AAD3A03F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FFFF-233F-4AC4-8270-7C9E4B12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6121-F8B8-4BCE-9635-367C5A56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5C5C-B66A-4B27-B6A8-72374F08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ABFD-7E45-4280-B002-CAE02052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E5A3-9B22-4F63-B9BB-70AE5BE6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E1AE-BAB2-4DE3-ABED-C59D5694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DAC4-C559-49B0-AF29-A8E8D800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07E-7F4B-42FB-B05C-B30835FC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EA5D-8844-4FC8-947E-A5D608FD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99CB-77C6-407A-A804-D23470344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oliday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962520"/>
            <a:ext cx="86868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Arabic Transparent"/>
                <a:cs typeface="Arabic Transparent"/>
              </a:rPr>
              <a:t>قد محوتُ كالسَّحابِ معاصِيَكَ وكالغَمامِ خطاياكَ إرجَعْ إليَّ فإني افتَدَيْتُكَ ولن أنساك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قد محوتُ كالسَّحابِ معاصِيَكَ وكالغَمامِ خطاياكَ إرجَعْ إليَّ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فإني افتَدَيْتُكَ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2901341hwAoAJDEMV_ph" descr=""/>
          <p:cNvPicPr/>
          <p:nvPr/>
        </p:nvPicPr>
        <p:blipFill>
          <a:blip r:embed="rId1"/>
          <a:stretch/>
        </p:blipFill>
        <p:spPr>
          <a:xfrm>
            <a:off x="3581280" y="0"/>
            <a:ext cx="61959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581280" cy="9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لا تَخَفْ دَعَوْتُكَ  باسمِكَ وَ أنتَ لي إذا اجتزتَ في المياه فأكونُ مع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إن عَبَرتَ في الأنهارْ لا تَغمُرُكَ وإن سِرْتَ في النارْ لا تلذَعُ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لأني أنا الربُّ فاديك جبيلُكَ في البطنِ صنيعُ كلِّ شي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لأني أنا الربُّ فاديك فإني قد أحبَبْتُكَ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holiday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962520"/>
            <a:ext cx="86868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Arabic Transparent"/>
                <a:cs typeface="Arabic Transparent"/>
              </a:rPr>
              <a:t>قد محوتُ كالسَّحابِ معاصِيَكَ وكالغَمامِ خطاياكَ إرجَعْ إليَّ فإني افتَدَيْتُكَ ولن أنساك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قد محوتُ كالسَّحابِ معاصِيَكَ وكالغَمامِ خطاياكَ إرجَعْ إليَّ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فإني افتَدَيْتُكَ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aby900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4572000" cy="85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8f8f8"/>
                </a:solidFill>
                <a:latin typeface="Times New Roman"/>
                <a:cs typeface="Arabic Transparent"/>
              </a:rPr>
              <a:t>هل تنسى المرأة رضيعَها فلا ترحمُ طفلَها إذا نسيَتِ النساء فأنا لا أنسا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8f8f8"/>
                </a:solidFill>
                <a:latin typeface="Times New Roman"/>
                <a:cs typeface="Arabic Transparent"/>
              </a:rPr>
              <a:t>ها أنا نقَشْتُكَ على كفَّيَّ وأنتَ أمامَ عينيَّ في كلِّ حي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8f8f8"/>
                </a:solidFill>
                <a:latin typeface="Times New Roman"/>
                <a:cs typeface="Arabic Transparent"/>
              </a:rPr>
              <a:t>حيٌّ أنا يقولُ الرب خلاصي إلى الأبدِ أمانتي  مدى الده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8f8f8"/>
                </a:solidFill>
                <a:latin typeface="Times New Roman"/>
                <a:cs typeface="Arabic Transparent"/>
              </a:rPr>
              <a:t>حيٌّ أنا يقولُ الرب من يَثِقُ بي لا يَخز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8f8f8"/>
                </a:solidFill>
                <a:latin typeface="Times New Roman"/>
                <a:cs typeface="Times New Roman"/>
              </a:rPr>
              <a:t>حيٌّ أنا يقولُ الرب من يَثِقُ بي لا يَخزى</a:t>
            </a:r>
            <a:r>
              <a:rPr b="0" lang="ar-SA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holiday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962520"/>
            <a:ext cx="86868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Arabic Transparent"/>
                <a:cs typeface="Arabic Transparent"/>
              </a:rPr>
              <a:t>قد محوتُ كالسَّحابِ معاصِيَكَ وكالغَمامِ خطاياكَ إرجَعْ إليَّ فإني افتَدَيْتُكَ ولن أنساك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قد محوتُ كالسَّحابِ معاصِيَكَ وكالغَمامِ خطاياكَ إرجَعْ إليَّ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فإني افتَدَيْتُكَ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8:27:28Z</dcterms:created>
  <dc:creator>SUZANNE.MD</dc:creator>
  <dc:description/>
  <dc:language>en-US</dc:language>
  <cp:lastModifiedBy>USER</cp:lastModifiedBy>
  <dcterms:modified xsi:type="dcterms:W3CDTF">2003-02-20T13:46:35Z</dcterms:modified>
  <cp:revision>2</cp:revision>
  <dc:subject/>
  <dc:title>PowerPoint Presentation</dc:title>
</cp:coreProperties>
</file>